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D73-1794-4C40-8510-B3A1A506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E5B-4D11-4C7B-9171-00C73E78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95F13-4D99-4B74-95D1-D4369C74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3C551-79CF-412A-9A0A-526F3346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033CF-900C-4ABC-B440-EAF09028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6C25C-1CA9-47C6-A2E4-6FC2ADCA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54B3B-4637-4360-A80E-62A97177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2F29E-1B3F-46D6-923D-7106F9DE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1E43F-A684-46AA-B53F-40A4568E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8BD66-5260-4B24-9E9F-430B4F06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B67B6-1F59-4728-A906-C9489DA3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2EE24-2135-45DA-9E60-7E3BA28F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8EB-BB25-47AF-8646-D7037F31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BF75C-FEA9-4776-B723-CFBBDB42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F93DA-5DB7-416D-9E63-59DE0D12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9F1EA-ED62-427C-82F4-4B488A0B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7EB21-D606-4669-9608-6D6786C1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998E1-EAAC-42D1-A2D9-2A3788EB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D9E16-4DBB-4494-A04D-FCA30495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382B3-A6A0-49D5-895A-8E181406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AF4F9-3899-433A-8646-EB9E62DF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CF6F5-D7D8-47B6-BD25-7CDB6E15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4B606-7A1B-49D7-AFB6-D80929E2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AD1-E29D-487A-AD35-CA4E51B2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CC68E-3A2A-4BAD-BFF1-B9870ED9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61D5B-2D82-4DFC-85AC-2FF802CE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A579C-0E96-4664-BCC6-2A7EFC46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6927B-0FC8-4F08-BBA0-A3882D8F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05D30-0804-405A-B40A-0EA423B6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5D639-9F30-4DB7-A76A-8FB618C4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6EA71-6556-4D8F-B454-2BF9FF8F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7054D-F458-4971-89BD-D201FE03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3A2F0-119D-402B-ACD0-50579458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296C3-2DD3-4DF6-88A4-B6683667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053A-3CF7-41B0-A3A0-BE3C3FA2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BD51B-264F-4A77-9A07-B867A968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7D806-1AE3-4DAC-AC75-8F0E15AE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26951-36B8-4EDA-8C57-21BB8F66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4D0FF-3135-4483-9A61-52DDCE84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EDFC7-9856-4B3B-A2F7-FA016E64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D5B36-3B24-4495-A418-CC4F8D3D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25072-31BE-42AD-9C83-0BFA1CBC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0F59A-E3EE-4D68-8B2C-416BC782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CB23D-C2B2-4103-98D7-CD136281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48841-ACA1-43C3-AFDF-DDEDF0B7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8BA9-7611-40DC-9BA3-73AA8CC5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B2DFC-7A13-4505-B86A-B291235F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A3CBE-5FC7-446A-B0B9-091C7776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22699-F1DB-4F05-932D-6E3CF08F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220F3-076A-4496-AEF4-36FF6709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ED554-2DBE-4C63-A788-109AD5AF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F6C38-4539-4279-90D9-B91333C7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6B759-A994-4FB6-BF96-9639D58C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D0A52-CFDC-41F4-80D9-62B895D7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39C8F-BF51-432F-9B75-917982B4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9BC0C-DDF4-4316-8BE7-F1C577E4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C6A3-8732-4BBC-B7F9-A256D9FC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D835B-0B21-4D73-9946-45D586FD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188A5-9C93-49D8-8AC9-895A6C32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434AC-8C2E-4FAD-AF94-2EC7ECBE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4D9C0-8F62-4450-8F74-7A928354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BDD7C-30B1-4DE2-B085-DAF32317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B432B-A6C1-49C6-851C-6814ED0E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2B2E5-3907-4C1A-824A-2C536D7B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78BCE-96C4-4463-A98B-E4F28ABB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8DCD4-A624-496F-A1F3-8E7FC0F4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DCF64-9E57-4E3B-BAC0-9156DEFA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2E50-0825-45DC-BAAB-CE40C757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EDCB1-179A-48DB-85F9-0EAD29E7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8F3A6-57A0-426A-9699-CB1AEBCF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771DE-50C7-4CFF-BBB3-06130750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A6B76-C0E1-464C-ABB4-03B5345B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7D231-0B0B-462A-8D9C-8A63D898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77114-C06F-4BAE-9D17-7DBD0B8C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5483C0-D459-482F-BD1A-E8FFA63F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CD63E-782C-4593-B81C-46A58918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D883F-1EB4-48D5-8476-6BC1B94D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B7727-8EB6-424D-90E5-6EC3CBC2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25D1-6D47-465E-9539-E5A48E5B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4D19D-68F1-4E5C-A24A-388968C3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7F173C-1E40-412B-B46B-D6DDB96D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D1DBE2-D369-4D03-810A-E20E16AD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D5357-2329-4459-B93F-34EFCB74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36CC7-B6AF-4346-BCA8-642388F3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EFA2E-6FD5-4BD2-8FA8-07B5F629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2D15B-83B9-48DA-97CD-AAAC0C1B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F7EDE3-A404-47F8-BDC7-E3EA27A6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E25463-FC88-4A29-AEE0-BA981771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EDB3A-A0F5-417A-ADBA-AF2FBB48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A1A9-15F9-495D-B58C-FC2AFBBF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39B9E3-7BA1-4352-AD67-ADAC11B1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DB993-EB2F-41A5-AAA6-77BC2992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4C36C-5302-4497-817F-2143A0C0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2F27B-9CDF-4471-9723-DBA4CEBE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CA94E-0EC7-4AA9-9277-77975F13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0DE56-4380-44F5-9FE6-8C2D7098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9CFA6-50D5-4094-9085-68700ACE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17AF9-8A48-4020-BDA4-F54AC023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C91B6-1185-46E5-A9A1-AFDAEBFC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3605D-E608-4CF3-BF7B-80E6F458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377E-8572-4C03-8569-48D7DA58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F661D-35F3-453C-9370-93A2A8C1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476A5-9760-45DA-BBF0-8D62A00F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D91FCE-5684-41AD-9000-F5A83670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A4759E-91FF-4CA9-859A-DCD77732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1A92F2-932D-4D80-8F00-832C2A85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A8C0D2-ABAC-4505-AAF1-7D8E9E40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8F823-D4DF-459A-9EBC-28999D4F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65E18-3444-47BD-B3E4-57F96DFB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F136B-8AB0-42C4-8964-B03D5C9C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E9563D-391A-46B8-915D-AEF19567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B40-CCA1-4D64-870E-FB2DD0D6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1C72-DF21-4D45-B4B3-1E05077B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16295-686C-4766-B384-6F4BC5B6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B4BA2-6959-4B6A-A89F-042FFA4C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CF7F6F-44B0-4F61-A332-F6BF9C73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EA832-4C01-42E4-8455-982AFFD9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2A40BE-84AA-4DB3-B5EC-DD817CB2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9300A-1F53-46CC-82F2-A3317D29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FF5E6-FD43-490C-B56A-0C817D72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F80A2-DF75-4504-8C50-3845DE52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2970E6-4FF7-49D1-AEDD-9229DACD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AFF25-B7BC-41EF-9EC2-DF4520B3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5C03-AC69-44A7-90A5-F46C9F3C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B0E1D9-673E-4049-8F45-DDF0DCA6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7442AF-A33A-48E2-9FF0-03D2C5E6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F3314-34AD-4CC0-BE52-579695AC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606F5B-162D-47B5-BF00-31A7AAB4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9654F-23A9-4988-8141-F51DCC39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6531F-D87B-40DD-A6DF-4D5B064C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D8489-420F-47A2-9105-03786332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A809F3-ABAF-4D42-B2A7-37A32FFB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9E5FE8-727B-4604-9A12-BE061568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0FFD6-8493-4380-BBE1-D102240F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2104-4287-41D2-BC50-9891CAC6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938FF-54AF-4406-925D-55D1773E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CB0F32-1BEF-4E34-B328-A5E278A6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0EADF0-AAA1-4115-BE0A-8F151199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E56760-6667-45C9-B512-41F966FA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3E22D8-6EC7-41FE-9321-06C48374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20243B-8259-46ED-9608-199EBE22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7AA1BD-5C5F-4086-BCC9-1FDFB206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DB9335-E93B-4A8B-A180-2717DEE5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6D31FA-8A6F-4F3D-8E88-088921E4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61AB6E-AB49-46FC-9351-109CE170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7760-9720-496C-B31F-87C7AF32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7A5695-3795-4A5D-9C86-89049CD5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FCB90B-B3B7-4F13-BAC0-5F513D3D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EC5215-9252-45E1-8170-CDD9CA3E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454B02-FA47-4438-BCA1-53B221E3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F24E54-9D84-48FE-8A70-0A859229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FE87E8-9D7B-4F04-A5EA-B02D0CDF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BC2E4C-ADA0-4CC5-8AF5-2D690C81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603541-5AF2-42CF-9021-1C240B9E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D90945-D55E-4428-84B2-4CC532FA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665AC-E1CA-420A-A32E-A67D726E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0538-5712-4EE9-90A4-BE69D032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011FE8-680E-40BC-BA4A-F14215E4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83122-2E79-4097-9148-989195B6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E1D2B3-F046-4C4A-8ED2-34BFDE2A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F1469C-4A30-469C-96CF-1D1499A5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ACBF04-473E-471B-A213-8A2AB473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E9E7EF-3AEE-4826-BD03-03EB2EFA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CA53B7-D71A-4255-8FFF-4017695E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ED184A-D671-4F1B-A2E2-705941C0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92DFC2-8DEE-4904-BDA4-E684E4D9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708DE8-4BBE-4C99-AAA4-9CDF0EAC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016A-C23F-4775-B641-3F6157CC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99E3DD-2B86-4F60-905D-49CABD1F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05747C-4CC1-41FB-947E-ADC8C7FE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75F65E-B50F-4667-8527-0DA45C73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6EB48-BA99-4384-B993-10746D06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769F-F64B-4A94-8B8D-9E6604E0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F05B-BCEF-42E3-8A2D-290AC8BD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2798-76F8-42E1-B319-C6D13060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C5B-C11C-4D89-874B-74036073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937BD-8BA9-4418-B2A1-8032DC39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3049-836B-4D53-838E-D18E1986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0A20-7016-4999-B750-82B68614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B9A9C-EF3D-46BC-AEB6-98336D6B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DC1FE-E8B3-43FD-94CC-B5A3A94E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363FD-B038-461E-9B4B-FCD3AAF7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EF810-9878-4528-B6E8-49161E2C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670BE-24AC-42BC-8893-DFDA6425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D1C4-74FC-4196-80EB-A9FA7E9E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A56A5-3C22-4DDB-85F6-226BD882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329-E18D-4329-A43C-F6F8CDA4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E40AC-360A-4FFA-9574-486B8FC7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C0D2C-863A-48EF-9738-1363F655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AE5D5-7611-4565-96FD-6ED2AAC8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6D405-B593-4A35-99F4-1AC9B2F2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3F3E1-8509-4D64-AED7-7568007C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BB742-7370-40F2-96A6-55FB81B7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3BE8B-EC29-4DDF-90EA-E295A2F6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CBC4C-3759-441B-8CA9-A6815357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B8FE8-5D04-4396-A975-5F81D3B0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135C1-171A-4E06-BCAE-7B54A79D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1AE-75E2-4EC3-ACA5-FFE34FDD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81D93-E999-4C25-94C7-C9F98233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8513-12D6-4637-B6B8-08E62565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E258A-ECD5-42F7-8243-FB408330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5A1F5-394B-4DC6-9397-B5BF23D7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73BCE-AD04-4603-AA76-FC711C42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1952A-326A-4704-81BC-A924C69B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7762-BBA0-48F1-A55D-FCE47210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EE3A6-1912-49CC-AF99-015A836E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4E3F4-78D0-40AA-831A-323737F2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CEC1B-81E4-4B7D-8296-9B93FCFD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FAC-E3F4-4047-8494-948823A9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E0CF6-0D77-4DA7-9AF7-4CD9741B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6B027-53B1-4239-AB36-993939DC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17184-7DAA-44E2-B2B5-F18834CF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DB4BA-E030-46AD-B3D2-DDDAFD87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E5AAE-C2AC-4416-B9A8-635709D5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7B9F6-968E-4AE2-9CED-FFD84D55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9C217-56BC-4B01-817D-2B186C84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4A8D7-C6B8-456D-B479-677E2D3E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6E664-44B7-4033-A841-1319DCAE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95E56-E22A-441B-BF0F-72C673B5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6B4-56EF-42D2-BF4C-411AC056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A15DD-1003-4DFD-83C0-0BB7F467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B5FE5-BC31-4387-9460-64F57FE1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17249-A666-422A-941D-8A0088F8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AB102-84DC-412B-9FEF-1C535751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1BB7A-59CC-44BB-A299-629BB530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B8DA2-EFB3-4C1B-9757-304CE08B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81ECE-1EFD-4B15-AF4A-13AC8170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8541F-08FF-472F-BB02-267024B0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9471A-C25B-470F-B7CC-D08898AB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12DB7-3AAE-4BEE-B81B-E3987412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7D5-2056-4399-AEB8-6AC7DC5F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217F3-D388-4807-A7EF-733396E9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A54EF-6CF5-4808-BDD1-21292DAE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3E641-75FE-47AD-866F-47F905D9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03F18-E489-471C-9B11-BCDE1FB8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1CB43-F836-4EF6-BD6C-9CEA3393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B532C-45DC-4328-B52C-86478B96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24644-1DD3-46B1-B850-E1AED084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02B3B-4D8B-4FFF-BC78-123F3C7E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EACD2-713B-477A-AC16-B3A0B790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6A103-3C4B-43DF-BAFE-B351A7D6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98D-E681-4F11-B4AB-7C76B7C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2542D-1D87-4292-AFDB-D3C6C10C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52326-6988-4165-81FB-7442BF5A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1F5AD-ABD5-4310-B1B3-9EC43B4A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B6BC6-4F5F-43BC-B15D-B97FDD50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BC548-1C7C-4F0C-A4A8-283549C7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CDCB4-8EFA-4409-AFFC-D06CD972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E2BE2-A54F-43E8-9F9F-5E8AEB06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15B15-04B3-4295-B0F2-0A82DEEA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0D996-24CC-420E-961C-521494FE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17018-7D68-485B-9EFB-F822BD1A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C771-E230-46C8-BD2F-F8BE53F7A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C341-4319-4901-B794-C12DC573CB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1FF6-7B97-41DD-8501-8159A2D33A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78AE-8731-4D28-882E-2DB32AAFD8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B195-74EE-4E9B-8F62-DF61B5B3EA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2B31-24AC-40C3-A14C-FB702D7475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F959-B4B8-443E-8E78-91259BD14D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46DC-DB61-4DB2-8707-3F0DA9A602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7E91-ED1C-4EAA-9C40-57F7ABB376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6026-6FD0-4EAC-96AF-6529BB71D6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2886-36B3-4966-BD20-81009CA11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5D90-3742-40B1-B047-610FD2B1A4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BEFA-A8B8-4A76-BC12-B6F15A53BF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D1E3-FC0D-4F2F-99EF-329D7C64BF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925D-2304-4EAC-85B8-E6032FC381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A214-C1C6-43F7-86BC-1047E133DA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A67A-24F0-4A3B-9E61-CBCAA0DA25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A402-D90C-4900-AAE3-D780D52643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9EAB-2637-423D-B116-A89A5BA336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C558-12DC-412A-9C8F-4D2097A741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D00A-3941-482C-B12E-CA84343471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59B4-17D9-4507-BF14-8247F65610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7D0F-657C-4E85-9B9C-EB41A8A1EF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1424-A1AE-46FB-B117-64B11ABCF0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3074-4FA3-447D-9A9D-5D0619AB4F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416E-FAEC-4B11-9635-106FCF9FBA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6071-5FA2-4CC5-A69F-C3F9F7F3C2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5BBF-29D0-465F-BB9D-F3AD2920E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FFE5-4D84-4BE8-B2DC-4D60096F68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79AE-554E-4F92-A84F-43B6CE018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60A7-44F6-41B5-B2F7-3E95EA931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AD6E-ADBA-43EE-9C51-C149F4282D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F37C-BF95-4209-B63C-79FD21F8E9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1586-1A96-465D-8334-C0ADC7EBC6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B456-A912-4CB5-BE41-D9A6C88E00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5DC1-13FA-4A50-A0E7-33C97001AF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461B-EB6A-4905-B878-81ED6B05C5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6AE6-1BCB-452A-A47D-7C098B5F40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C0C5-F1FB-454B-BD6C-B7E5C7408C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C32A-4879-49BE-A968-310E4300EB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76320" y="2552760"/>
            <a:ext cx="8991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19240" y="1119240"/>
            <a:ext cx="8705520" cy="461952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6" descr=""/>
          <p:cNvPicPr/>
          <p:nvPr/>
        </p:nvPicPr>
        <p:blipFill>
          <a:blip r:embed="rId2"/>
          <a:stretch/>
        </p:blipFill>
        <p:spPr>
          <a:xfrm>
            <a:off x="1625760" y="402588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1" descr=""/>
          <p:cNvPicPr/>
          <p:nvPr/>
        </p:nvPicPr>
        <p:blipFill>
          <a:blip r:embed="rId3"/>
          <a:stretch/>
        </p:blipFill>
        <p:spPr>
          <a:xfrm>
            <a:off x="1625760" y="4854600"/>
            <a:ext cx="46188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2309760" y="1733400"/>
            <a:ext cx="4524480" cy="339120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6" descr=""/>
          <p:cNvPicPr/>
          <p:nvPr/>
        </p:nvPicPr>
        <p:blipFill>
          <a:blip r:embed="rId2"/>
          <a:stretch/>
        </p:blipFill>
        <p:spPr>
          <a:xfrm>
            <a:off x="3282840" y="2154240"/>
            <a:ext cx="462240" cy="33336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1" descr=""/>
          <p:cNvPicPr/>
          <p:nvPr/>
        </p:nvPicPr>
        <p:blipFill>
          <a:blip r:embed="rId3"/>
          <a:stretch/>
        </p:blipFill>
        <p:spPr>
          <a:xfrm>
            <a:off x="3282840" y="300348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114" name="图片 2" descr=""/>
          <p:cNvPicPr/>
          <p:nvPr/>
        </p:nvPicPr>
        <p:blipFill>
          <a:blip r:embed="rId4"/>
          <a:stretch/>
        </p:blipFill>
        <p:spPr>
          <a:xfrm>
            <a:off x="3282840" y="3854520"/>
            <a:ext cx="4622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6313320" y="365040"/>
            <a:ext cx="38916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3"/>
          <a:stretch/>
        </p:blipFill>
        <p:spPr>
          <a:xfrm>
            <a:off x="3071880" y="781200"/>
            <a:ext cx="2743200" cy="63792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2" descr=""/>
          <p:cNvPicPr/>
          <p:nvPr/>
        </p:nvPicPr>
        <p:blipFill>
          <a:blip r:embed="rId4"/>
          <a:stretch/>
        </p:blipFill>
        <p:spPr>
          <a:xfrm>
            <a:off x="157320" y="2405160"/>
            <a:ext cx="8827920" cy="20476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" descr=""/>
          <p:cNvPicPr/>
          <p:nvPr/>
        </p:nvPicPr>
        <p:blipFill>
          <a:blip r:embed="rId5"/>
          <a:stretch/>
        </p:blipFill>
        <p:spPr>
          <a:xfrm>
            <a:off x="4741920" y="4046400"/>
            <a:ext cx="461880" cy="33516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2" descr=""/>
          <p:cNvPicPr/>
          <p:nvPr/>
        </p:nvPicPr>
        <p:blipFill>
          <a:blip r:embed="rId6"/>
          <a:stretch/>
        </p:blipFill>
        <p:spPr>
          <a:xfrm>
            <a:off x="8069400" y="4046400"/>
            <a:ext cx="461880" cy="33516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3" descr=""/>
          <p:cNvPicPr/>
          <p:nvPr/>
        </p:nvPicPr>
        <p:blipFill>
          <a:blip r:embed="rId7"/>
          <a:stretch/>
        </p:blipFill>
        <p:spPr>
          <a:xfrm>
            <a:off x="2973240" y="404640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4" descr=""/>
          <p:cNvPicPr/>
          <p:nvPr/>
        </p:nvPicPr>
        <p:blipFill>
          <a:blip r:embed="rId8"/>
          <a:stretch/>
        </p:blipFill>
        <p:spPr>
          <a:xfrm>
            <a:off x="1187280" y="404640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5" descr=""/>
          <p:cNvPicPr/>
          <p:nvPr/>
        </p:nvPicPr>
        <p:blipFill>
          <a:blip r:embed="rId9"/>
          <a:stretch/>
        </p:blipFill>
        <p:spPr>
          <a:xfrm>
            <a:off x="6240600" y="4046400"/>
            <a:ext cx="46188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885960" y="798480"/>
            <a:ext cx="7372080" cy="586584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1" descr=""/>
          <p:cNvPicPr/>
          <p:nvPr/>
        </p:nvPicPr>
        <p:blipFill>
          <a:blip r:embed="rId2"/>
          <a:stretch/>
        </p:blipFill>
        <p:spPr>
          <a:xfrm>
            <a:off x="1515960" y="127152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2" descr=""/>
          <p:cNvPicPr/>
          <p:nvPr/>
        </p:nvPicPr>
        <p:blipFill>
          <a:blip r:embed="rId3"/>
          <a:stretch/>
        </p:blipFill>
        <p:spPr>
          <a:xfrm>
            <a:off x="1515960" y="229536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3" descr=""/>
          <p:cNvPicPr/>
          <p:nvPr/>
        </p:nvPicPr>
        <p:blipFill>
          <a:blip r:embed="rId4"/>
          <a:stretch/>
        </p:blipFill>
        <p:spPr>
          <a:xfrm>
            <a:off x="1515960" y="343692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4" descr=""/>
          <p:cNvPicPr/>
          <p:nvPr/>
        </p:nvPicPr>
        <p:blipFill>
          <a:blip r:embed="rId5"/>
          <a:stretch/>
        </p:blipFill>
        <p:spPr>
          <a:xfrm>
            <a:off x="1515960" y="453060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5" descr=""/>
          <p:cNvPicPr/>
          <p:nvPr/>
        </p:nvPicPr>
        <p:blipFill>
          <a:blip r:embed="rId6"/>
          <a:stretch/>
        </p:blipFill>
        <p:spPr>
          <a:xfrm>
            <a:off x="1515960" y="5626080"/>
            <a:ext cx="4622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347760" y="1063800"/>
            <a:ext cx="7353360" cy="234288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2" descr=""/>
          <p:cNvPicPr/>
          <p:nvPr/>
        </p:nvPicPr>
        <p:blipFill>
          <a:blip r:embed="rId2"/>
          <a:stretch/>
        </p:blipFill>
        <p:spPr>
          <a:xfrm>
            <a:off x="395280" y="3719520"/>
            <a:ext cx="8352000" cy="235260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1" descr=""/>
          <p:cNvPicPr/>
          <p:nvPr/>
        </p:nvPicPr>
        <p:blipFill>
          <a:blip r:embed="rId3"/>
          <a:stretch/>
        </p:blipFill>
        <p:spPr>
          <a:xfrm>
            <a:off x="987480" y="1474920"/>
            <a:ext cx="461880" cy="33480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2" descr=""/>
          <p:cNvPicPr/>
          <p:nvPr/>
        </p:nvPicPr>
        <p:blipFill>
          <a:blip r:embed="rId4"/>
          <a:stretch/>
        </p:blipFill>
        <p:spPr>
          <a:xfrm>
            <a:off x="987480" y="1881360"/>
            <a:ext cx="461880" cy="33480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3" descr=""/>
          <p:cNvPicPr/>
          <p:nvPr/>
        </p:nvPicPr>
        <p:blipFill>
          <a:blip r:embed="rId5"/>
          <a:stretch/>
        </p:blipFill>
        <p:spPr>
          <a:xfrm>
            <a:off x="987480" y="221616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4" descr=""/>
          <p:cNvPicPr/>
          <p:nvPr/>
        </p:nvPicPr>
        <p:blipFill>
          <a:blip r:embed="rId6"/>
          <a:stretch/>
        </p:blipFill>
        <p:spPr>
          <a:xfrm>
            <a:off x="987480" y="2657520"/>
            <a:ext cx="461880" cy="33480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5" descr=""/>
          <p:cNvPicPr/>
          <p:nvPr/>
        </p:nvPicPr>
        <p:blipFill>
          <a:blip r:embed="rId7"/>
          <a:stretch/>
        </p:blipFill>
        <p:spPr>
          <a:xfrm>
            <a:off x="905040" y="3073320"/>
            <a:ext cx="460080" cy="33336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6" descr=""/>
          <p:cNvPicPr/>
          <p:nvPr/>
        </p:nvPicPr>
        <p:blipFill>
          <a:blip r:embed="rId8"/>
          <a:stretch/>
        </p:blipFill>
        <p:spPr>
          <a:xfrm>
            <a:off x="1060560" y="4121280"/>
            <a:ext cx="460440" cy="33480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7" descr=""/>
          <p:cNvPicPr/>
          <p:nvPr/>
        </p:nvPicPr>
        <p:blipFill>
          <a:blip r:embed="rId9"/>
          <a:stretch/>
        </p:blipFill>
        <p:spPr>
          <a:xfrm>
            <a:off x="1060560" y="4527720"/>
            <a:ext cx="460440" cy="33480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8" descr=""/>
          <p:cNvPicPr/>
          <p:nvPr/>
        </p:nvPicPr>
        <p:blipFill>
          <a:blip r:embed="rId10"/>
          <a:stretch/>
        </p:blipFill>
        <p:spPr>
          <a:xfrm>
            <a:off x="1060560" y="4862520"/>
            <a:ext cx="460440" cy="33336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9" descr=""/>
          <p:cNvPicPr/>
          <p:nvPr/>
        </p:nvPicPr>
        <p:blipFill>
          <a:blip r:embed="rId11"/>
          <a:stretch/>
        </p:blipFill>
        <p:spPr>
          <a:xfrm>
            <a:off x="1060560" y="5300640"/>
            <a:ext cx="460440" cy="33336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10" descr=""/>
          <p:cNvPicPr/>
          <p:nvPr/>
        </p:nvPicPr>
        <p:blipFill>
          <a:blip r:embed="rId12"/>
          <a:stretch/>
        </p:blipFill>
        <p:spPr>
          <a:xfrm>
            <a:off x="1060560" y="5738760"/>
            <a:ext cx="4604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图片 1" descr=""/>
          <p:cNvPicPr/>
          <p:nvPr/>
        </p:nvPicPr>
        <p:blipFill>
          <a:blip r:embed="rId1"/>
          <a:stretch/>
        </p:blipFill>
        <p:spPr>
          <a:xfrm>
            <a:off x="133200" y="1833480"/>
            <a:ext cx="8877600" cy="319104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28675" descr=""/>
          <p:cNvPicPr/>
          <p:nvPr/>
        </p:nvPicPr>
        <p:blipFill>
          <a:blip r:embed="rId2"/>
          <a:stretch/>
        </p:blipFill>
        <p:spPr>
          <a:xfrm>
            <a:off x="868320" y="2975040"/>
            <a:ext cx="1025640" cy="53964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1" descr=""/>
          <p:cNvPicPr/>
          <p:nvPr/>
        </p:nvPicPr>
        <p:blipFill>
          <a:blip r:embed="rId3"/>
          <a:stretch/>
        </p:blipFill>
        <p:spPr>
          <a:xfrm>
            <a:off x="2771640" y="2975040"/>
            <a:ext cx="965160" cy="53964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2" descr=""/>
          <p:cNvPicPr/>
          <p:nvPr/>
        </p:nvPicPr>
        <p:blipFill>
          <a:blip r:embed="rId4"/>
          <a:stretch/>
        </p:blipFill>
        <p:spPr>
          <a:xfrm>
            <a:off x="5859360" y="2989440"/>
            <a:ext cx="885960" cy="53964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3" descr=""/>
          <p:cNvPicPr/>
          <p:nvPr/>
        </p:nvPicPr>
        <p:blipFill>
          <a:blip r:embed="rId5"/>
          <a:stretch/>
        </p:blipFill>
        <p:spPr>
          <a:xfrm>
            <a:off x="7020000" y="2989440"/>
            <a:ext cx="965160" cy="53964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4" descr=""/>
          <p:cNvPicPr/>
          <p:nvPr/>
        </p:nvPicPr>
        <p:blipFill>
          <a:blip r:embed="rId6"/>
          <a:stretch/>
        </p:blipFill>
        <p:spPr>
          <a:xfrm>
            <a:off x="1623960" y="3708360"/>
            <a:ext cx="932040" cy="54144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5" descr=""/>
          <p:cNvPicPr/>
          <p:nvPr/>
        </p:nvPicPr>
        <p:blipFill>
          <a:blip r:embed="rId7"/>
          <a:stretch/>
        </p:blipFill>
        <p:spPr>
          <a:xfrm>
            <a:off x="3452760" y="3708360"/>
            <a:ext cx="974880" cy="54144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6" descr=""/>
          <p:cNvPicPr/>
          <p:nvPr/>
        </p:nvPicPr>
        <p:blipFill>
          <a:blip r:embed="rId8"/>
          <a:stretch/>
        </p:blipFill>
        <p:spPr>
          <a:xfrm>
            <a:off x="5859360" y="3693960"/>
            <a:ext cx="944640" cy="54144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7" descr=""/>
          <p:cNvPicPr/>
          <p:nvPr/>
        </p:nvPicPr>
        <p:blipFill>
          <a:blip r:embed="rId9"/>
          <a:stretch/>
        </p:blipFill>
        <p:spPr>
          <a:xfrm>
            <a:off x="7097760" y="3693960"/>
            <a:ext cx="1003320" cy="54144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8" descr=""/>
          <p:cNvPicPr/>
          <p:nvPr/>
        </p:nvPicPr>
        <p:blipFill>
          <a:blip r:embed="rId10"/>
          <a:stretch/>
        </p:blipFill>
        <p:spPr>
          <a:xfrm>
            <a:off x="1692360" y="4429080"/>
            <a:ext cx="963360" cy="53964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9" descr=""/>
          <p:cNvPicPr/>
          <p:nvPr/>
        </p:nvPicPr>
        <p:blipFill>
          <a:blip r:embed="rId11"/>
          <a:stretch/>
        </p:blipFill>
        <p:spPr>
          <a:xfrm>
            <a:off x="2851200" y="4429080"/>
            <a:ext cx="928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237960" y="939960"/>
            <a:ext cx="8668080" cy="302868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2" descr=""/>
          <p:cNvPicPr/>
          <p:nvPr/>
        </p:nvPicPr>
        <p:blipFill>
          <a:blip r:embed="rId2"/>
          <a:stretch/>
        </p:blipFill>
        <p:spPr>
          <a:xfrm>
            <a:off x="744480" y="4641840"/>
            <a:ext cx="5295960" cy="190512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28675" descr=""/>
          <p:cNvPicPr/>
          <p:nvPr/>
        </p:nvPicPr>
        <p:blipFill>
          <a:blip r:embed="rId3"/>
          <a:stretch/>
        </p:blipFill>
        <p:spPr>
          <a:xfrm>
            <a:off x="906480" y="3405240"/>
            <a:ext cx="1865160" cy="56340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1" descr=""/>
          <p:cNvPicPr/>
          <p:nvPr/>
        </p:nvPicPr>
        <p:blipFill>
          <a:blip r:embed="rId4"/>
          <a:stretch/>
        </p:blipFill>
        <p:spPr>
          <a:xfrm>
            <a:off x="4017960" y="3405240"/>
            <a:ext cx="1728720" cy="56340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2" descr=""/>
          <p:cNvPicPr/>
          <p:nvPr/>
        </p:nvPicPr>
        <p:blipFill>
          <a:blip r:embed="rId5"/>
          <a:stretch/>
        </p:blipFill>
        <p:spPr>
          <a:xfrm>
            <a:off x="7074000" y="3405240"/>
            <a:ext cx="1728720" cy="56340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3" descr=""/>
          <p:cNvPicPr/>
          <p:nvPr/>
        </p:nvPicPr>
        <p:blipFill>
          <a:blip r:embed="rId6"/>
          <a:stretch/>
        </p:blipFill>
        <p:spPr>
          <a:xfrm>
            <a:off x="1154160" y="5904000"/>
            <a:ext cx="1728720" cy="56520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4" descr=""/>
          <p:cNvPicPr/>
          <p:nvPr/>
        </p:nvPicPr>
        <p:blipFill>
          <a:blip r:embed="rId7"/>
          <a:stretch/>
        </p:blipFill>
        <p:spPr>
          <a:xfrm>
            <a:off x="4125960" y="5918040"/>
            <a:ext cx="18860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图片 1" descr=""/>
          <p:cNvPicPr/>
          <p:nvPr/>
        </p:nvPicPr>
        <p:blipFill>
          <a:blip r:embed="rId1"/>
          <a:stretch/>
        </p:blipFill>
        <p:spPr>
          <a:xfrm>
            <a:off x="343080" y="1004760"/>
            <a:ext cx="8458200" cy="506592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6" descr=""/>
          <p:cNvPicPr/>
          <p:nvPr/>
        </p:nvPicPr>
        <p:blipFill>
          <a:blip r:embed="rId2"/>
          <a:stretch/>
        </p:blipFill>
        <p:spPr>
          <a:xfrm>
            <a:off x="963720" y="142704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1" descr=""/>
          <p:cNvPicPr/>
          <p:nvPr/>
        </p:nvPicPr>
        <p:blipFill>
          <a:blip r:embed="rId3"/>
          <a:stretch/>
        </p:blipFill>
        <p:spPr>
          <a:xfrm>
            <a:off x="963720" y="2328840"/>
            <a:ext cx="461880" cy="33516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2" descr=""/>
          <p:cNvPicPr/>
          <p:nvPr/>
        </p:nvPicPr>
        <p:blipFill>
          <a:blip r:embed="rId4"/>
          <a:stretch/>
        </p:blipFill>
        <p:spPr>
          <a:xfrm>
            <a:off x="963720" y="353232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3" descr=""/>
          <p:cNvPicPr/>
          <p:nvPr/>
        </p:nvPicPr>
        <p:blipFill>
          <a:blip r:embed="rId5"/>
          <a:stretch/>
        </p:blipFill>
        <p:spPr>
          <a:xfrm>
            <a:off x="963720" y="4518000"/>
            <a:ext cx="461880" cy="33516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4" descr=""/>
          <p:cNvPicPr/>
          <p:nvPr/>
        </p:nvPicPr>
        <p:blipFill>
          <a:blip r:embed="rId6"/>
          <a:stretch/>
        </p:blipFill>
        <p:spPr>
          <a:xfrm>
            <a:off x="963720" y="5229360"/>
            <a:ext cx="46188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0" name="图片 1" descr=""/>
          <p:cNvPicPr/>
          <p:nvPr/>
        </p:nvPicPr>
        <p:blipFill>
          <a:blip r:embed="rId1"/>
          <a:stretch/>
        </p:blipFill>
        <p:spPr>
          <a:xfrm>
            <a:off x="520560" y="446040"/>
            <a:ext cx="8104320" cy="624672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6" descr=""/>
          <p:cNvPicPr/>
          <p:nvPr/>
        </p:nvPicPr>
        <p:blipFill>
          <a:blip r:embed="rId2"/>
          <a:stretch/>
        </p:blipFill>
        <p:spPr>
          <a:xfrm>
            <a:off x="1152360" y="1270080"/>
            <a:ext cx="462240" cy="33336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1" descr=""/>
          <p:cNvPicPr/>
          <p:nvPr/>
        </p:nvPicPr>
        <p:blipFill>
          <a:blip r:embed="rId3"/>
          <a:stretch/>
        </p:blipFill>
        <p:spPr>
          <a:xfrm>
            <a:off x="1152360" y="2409840"/>
            <a:ext cx="462240" cy="334800"/>
          </a:xfrm>
          <a:prstGeom prst="rect">
            <a:avLst/>
          </a:prstGeom>
          <a:ln w="0">
            <a:noFill/>
          </a:ln>
        </p:spPr>
      </p:pic>
      <p:pic>
        <p:nvPicPr>
          <p:cNvPr id="1093" name="图片 2" descr=""/>
          <p:cNvPicPr/>
          <p:nvPr/>
        </p:nvPicPr>
        <p:blipFill>
          <a:blip r:embed="rId4"/>
          <a:stretch/>
        </p:blipFill>
        <p:spPr>
          <a:xfrm>
            <a:off x="1152360" y="3632040"/>
            <a:ext cx="462240" cy="333360"/>
          </a:xfrm>
          <a:prstGeom prst="rect">
            <a:avLst/>
          </a:prstGeom>
          <a:ln w="0">
            <a:noFill/>
          </a:ln>
        </p:spPr>
      </p:pic>
      <p:pic>
        <p:nvPicPr>
          <p:cNvPr id="1094" name="图片 3" descr=""/>
          <p:cNvPicPr/>
          <p:nvPr/>
        </p:nvPicPr>
        <p:blipFill>
          <a:blip r:embed="rId5"/>
          <a:stretch/>
        </p:blipFill>
        <p:spPr>
          <a:xfrm>
            <a:off x="1152360" y="4784760"/>
            <a:ext cx="462240" cy="33480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4" descr=""/>
          <p:cNvPicPr/>
          <p:nvPr/>
        </p:nvPicPr>
        <p:blipFill>
          <a:blip r:embed="rId6"/>
          <a:stretch/>
        </p:blipFill>
        <p:spPr>
          <a:xfrm>
            <a:off x="1152360" y="5961240"/>
            <a:ext cx="46224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8" name="图片 1" descr=""/>
          <p:cNvPicPr/>
          <p:nvPr/>
        </p:nvPicPr>
        <p:blipFill>
          <a:blip r:embed="rId1"/>
          <a:stretch/>
        </p:blipFill>
        <p:spPr>
          <a:xfrm>
            <a:off x="100080" y="871560"/>
            <a:ext cx="8942400" cy="511488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6" descr=""/>
          <p:cNvPicPr/>
          <p:nvPr/>
        </p:nvPicPr>
        <p:blipFill>
          <a:blip r:embed="rId2"/>
          <a:stretch/>
        </p:blipFill>
        <p:spPr>
          <a:xfrm>
            <a:off x="698400" y="1306440"/>
            <a:ext cx="522360" cy="33336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1" descr=""/>
          <p:cNvPicPr/>
          <p:nvPr/>
        </p:nvPicPr>
        <p:blipFill>
          <a:blip r:embed="rId3"/>
          <a:stretch/>
        </p:blipFill>
        <p:spPr>
          <a:xfrm>
            <a:off x="728640" y="265428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2" descr=""/>
          <p:cNvPicPr/>
          <p:nvPr/>
        </p:nvPicPr>
        <p:blipFill>
          <a:blip r:embed="rId4"/>
          <a:stretch/>
        </p:blipFill>
        <p:spPr>
          <a:xfrm>
            <a:off x="758880" y="3495600"/>
            <a:ext cx="461880" cy="335160"/>
          </a:xfrm>
          <a:prstGeom prst="rect">
            <a:avLst/>
          </a:prstGeom>
          <a:ln w="0">
            <a:noFill/>
          </a:ln>
        </p:spPr>
      </p:pic>
      <p:pic>
        <p:nvPicPr>
          <p:cNvPr id="1102" name="图片 3" descr=""/>
          <p:cNvPicPr/>
          <p:nvPr/>
        </p:nvPicPr>
        <p:blipFill>
          <a:blip r:embed="rId5"/>
          <a:stretch/>
        </p:blipFill>
        <p:spPr>
          <a:xfrm>
            <a:off x="758880" y="431496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03" name="图片 4" descr=""/>
          <p:cNvPicPr/>
          <p:nvPr/>
        </p:nvPicPr>
        <p:blipFill>
          <a:blip r:embed="rId6"/>
          <a:stretch/>
        </p:blipFill>
        <p:spPr>
          <a:xfrm>
            <a:off x="758880" y="5216400"/>
            <a:ext cx="4618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19:11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